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CB5-5DAD-4F36-BA22-63DB5DB7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054-567F-4E8A-8B36-3746CED5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BFA-2090-4AB9-BFD6-42830120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B60-FFB6-4B1D-84DD-AF778D82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D8B-4708-4BA6-82EF-4A2EEFF4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733-45FB-4923-AF5A-5B03F03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2AB-B950-411E-8E4A-9A184BCB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811-E5C8-4C91-B995-5BA3864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F8D-AECC-40F6-8524-6268324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039-603C-459D-A6AE-AAF20462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E6E-88E4-4418-9853-09BE1077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8EE-CD67-4CB7-BB86-AF6F7FED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5678-65DD-4585-AAD2-B3B305E41B83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ffff00"/>
                </a:solidFill>
                <a:uFillTx/>
                <a:latin typeface="Verdana"/>
              </a:rPr>
              <a:t>TABLERO DE CONTROL Y ANÁLSIS DE COSTOS POR SECTO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5172120"/>
            <a:ext cx="878688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xperiencia del Sanatorio Parque SA de la Ciudad de Rosari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3" name="Object 3"/>
          <p:cNvGraphicFramePr/>
          <p:nvPr/>
        </p:nvGraphicFramePr>
        <p:xfrm>
          <a:off x="3214800" y="2117880"/>
          <a:ext cx="278604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2117880"/>
                    <a:ext cx="278604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TABLERO DE CONTROL OP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514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TABLERO DE CONTROL OP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0" y="1571760"/>
            <a:ext cx="90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¿Qué nos falta? ¿Qué otro aspecto queremos medi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5 CuadroTexto"/>
          <p:cNvSpPr/>
          <p:nvPr/>
        </p:nvSpPr>
        <p:spPr>
          <a:xfrm>
            <a:off x="0" y="2517840"/>
            <a:ext cx="914400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00"/>
                </a:solidFill>
                <a:latin typeface="Verdana"/>
              </a:rPr>
              <a:t>Existió un evento disparador: </a:t>
            </a:r>
            <a:r>
              <a:rPr b="0" i="1" lang="es-AR" sz="2300" spc="-1" strike="noStrike">
                <a:solidFill>
                  <a:srgbClr val="ffff00"/>
                </a:solidFill>
                <a:latin typeface="Verdana"/>
              </a:rPr>
              <a:t>¿Cuál es la rentabilidad del sector Transplante Renal y Cardíaco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00"/>
                </a:solidFill>
                <a:latin typeface="Verdana"/>
              </a:rPr>
              <a:t>Dificultades para la medición y asignación de costos a los diferentes sector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00"/>
                </a:solidFill>
                <a:latin typeface="Verdana"/>
              </a:rPr>
              <a:t>Criterio básico utilizado para evaluar la rentabilidad del sector TX Renal y Cardíaco: asignar costos indirectos a base del volumen de facturac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00"/>
                </a:solidFill>
                <a:latin typeface="Verdana"/>
              </a:rPr>
              <a:t>Resultado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6 CuadroTexto"/>
          <p:cNvSpPr/>
          <p:nvPr/>
        </p:nvSpPr>
        <p:spPr>
          <a:xfrm>
            <a:off x="0" y="92880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ff00"/>
                </a:solidFill>
                <a:uFillTx/>
                <a:latin typeface="Verdana"/>
              </a:rPr>
              <a:t>DIAGNÓSTICO IN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7 CuadroTexto"/>
          <p:cNvSpPr/>
          <p:nvPr/>
        </p:nvSpPr>
        <p:spPr>
          <a:xfrm>
            <a:off x="2071800" y="628668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Verdana"/>
              </a:rPr>
              <a:t>Poco preci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TABLERO DE CONTROL OP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4 CuadroTexto"/>
          <p:cNvSpPr/>
          <p:nvPr/>
        </p:nvSpPr>
        <p:spPr>
          <a:xfrm>
            <a:off x="142920" y="128592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Entonces…¿Que nos falta? ¿Qué queremos medi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8 CuadroTexto"/>
          <p:cNvSpPr/>
          <p:nvPr/>
        </p:nvSpPr>
        <p:spPr>
          <a:xfrm>
            <a:off x="142920" y="2071800"/>
            <a:ext cx="88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00"/>
                </a:solidFill>
                <a:latin typeface="Verdana"/>
              </a:rPr>
              <a:t>Nos falta una evaluación sistemática y objetiva de la rentabilidad de los distintos sectores del Sanato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9 Conector recto"/>
          <p:cNvSpPr/>
          <p:nvPr/>
        </p:nvSpPr>
        <p:spPr>
          <a:xfrm>
            <a:off x="285840" y="5499000"/>
            <a:ext cx="85723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11 Conector recto"/>
          <p:cNvSpPr/>
          <p:nvPr/>
        </p:nvSpPr>
        <p:spPr>
          <a:xfrm>
            <a:off x="285840" y="5641920"/>
            <a:ext cx="85723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1 Título"/>
          <p:cNvSpPr/>
          <p:nvPr/>
        </p:nvSpPr>
        <p:spPr>
          <a:xfrm>
            <a:off x="214200" y="5846760"/>
            <a:ext cx="86439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ff00"/>
                </a:solidFill>
                <a:latin typeface="Verdana"/>
              </a:rPr>
              <a:t>Tablero de Control operativo y de costos por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OBJETIVOS DEL TRABAJ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3 CuadroTexto"/>
          <p:cNvSpPr/>
          <p:nvPr/>
        </p:nvSpPr>
        <p:spPr>
          <a:xfrm>
            <a:off x="0" y="150012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Asignar racionalmente  los costos de la Institución con relación a los 26 Centros de Benefi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Medir la capacidad de generación de utilidades de dichos Cent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Generar información a ser utilizada en el Tablero de Comando (Balance Scorecard) de la Institu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ESENCIA DEL COSTE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4 CuadroTexto"/>
          <p:cNvSpPr/>
          <p:nvPr/>
        </p:nvSpPr>
        <p:spPr>
          <a:xfrm>
            <a:off x="714240" y="1214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00"/>
                </a:solidFill>
                <a:latin typeface="Verdana"/>
              </a:rPr>
              <a:t>Costos direc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5 CuadroTexto"/>
          <p:cNvSpPr/>
          <p:nvPr/>
        </p:nvSpPr>
        <p:spPr>
          <a:xfrm>
            <a:off x="714240" y="1701720"/>
            <a:ext cx="8001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Iden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Asignación específ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6 CuadroTexto"/>
          <p:cNvSpPr/>
          <p:nvPr/>
        </p:nvSpPr>
        <p:spPr>
          <a:xfrm>
            <a:off x="714240" y="350028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00"/>
                </a:solidFill>
                <a:latin typeface="Verdana"/>
              </a:rPr>
              <a:t>Costos indirec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7 CuadroTexto"/>
          <p:cNvSpPr/>
          <p:nvPr/>
        </p:nvSpPr>
        <p:spPr>
          <a:xfrm>
            <a:off x="714240" y="4024440"/>
            <a:ext cx="8001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Identificación de inductores de co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Determinación y asig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CENTROS DE BENEFICI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87200" y="1257480"/>
          <a:ext cx="8771040" cy="51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257480"/>
                    <a:ext cx="8771040" cy="51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Verdana"/>
              </a:rPr>
              <a:t>CENTROS DE BENEFICIOS ESPECIAL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3 CuadroTexto"/>
          <p:cNvSpPr/>
          <p:nvPr/>
        </p:nvSpPr>
        <p:spPr>
          <a:xfrm>
            <a:off x="0" y="11080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Existen Centros de Beneficios cuya demanda es derivada por otros Cen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De tal modo, estos pueden ser evaluados de diferente for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omo tales, con sus propios ingresos, sus costos directos y sus costos opera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omo un Centro de Servicios, imputándose sus Ingresos a otros que generan su uso y trasladando sus costos directos y sus costos operativos a dichos Cen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Ejemplos de ellos son Farmacia y Quiróf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El sistema de costeo debería permitir ambas visiones en forma simultán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Verdana"/>
              </a:rPr>
              <a:t>CENTROS DE BENEFICIOS ESPECIAL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1 Título"/>
          <p:cNvSpPr/>
          <p:nvPr/>
        </p:nvSpPr>
        <p:spPr>
          <a:xfrm>
            <a:off x="214200" y="988920"/>
            <a:ext cx="86439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ff00"/>
                </a:solidFill>
                <a:latin typeface="Verdana"/>
              </a:rPr>
              <a:t>DOBLE 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6 Rectángulo redondeado"/>
          <p:cNvGrpSpPr/>
          <p:nvPr/>
        </p:nvGrpSpPr>
        <p:grpSpPr>
          <a:xfrm>
            <a:off x="512640" y="2389320"/>
            <a:ext cx="2968920" cy="1182600"/>
            <a:chOff x="512640" y="2389320"/>
            <a:chExt cx="2968920" cy="1182600"/>
          </a:xfrm>
        </p:grpSpPr>
        <p:pic>
          <p:nvPicPr>
            <p:cNvPr id="120" name="6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512640" y="2389320"/>
              <a:ext cx="2968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23880" y="2481120"/>
              <a:ext cx="27525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CENTRO DE BENEFIC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7 Rectángulo redondeado"/>
          <p:cNvGrpSpPr/>
          <p:nvPr/>
        </p:nvGrpSpPr>
        <p:grpSpPr>
          <a:xfrm>
            <a:off x="5724360" y="2389320"/>
            <a:ext cx="2975040" cy="1182600"/>
            <a:chOff x="5724360" y="2389320"/>
            <a:chExt cx="2975040" cy="1182600"/>
          </a:xfrm>
        </p:grpSpPr>
        <p:pic>
          <p:nvPicPr>
            <p:cNvPr id="123" name="7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724360" y="2389320"/>
              <a:ext cx="29750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838840" y="2481120"/>
              <a:ext cx="27525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CENTRO DE SERVIC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9 Flecha doblada"/>
          <p:cNvGrpSpPr/>
          <p:nvPr/>
        </p:nvGrpSpPr>
        <p:grpSpPr>
          <a:xfrm>
            <a:off x="4754520" y="1682640"/>
            <a:ext cx="920880" cy="1505160"/>
            <a:chOff x="4754520" y="1682640"/>
            <a:chExt cx="920880" cy="1505160"/>
          </a:xfrm>
        </p:grpSpPr>
        <p:pic>
          <p:nvPicPr>
            <p:cNvPr id="126" name="9 Flecha doblada" descr=""/>
            <p:cNvPicPr/>
            <p:nvPr/>
          </p:nvPicPr>
          <p:blipFill>
            <a:blip r:embed="rId3"/>
            <a:stretch/>
          </p:blipFill>
          <p:spPr>
            <a:xfrm>
              <a:off x="4754520" y="1682640"/>
              <a:ext cx="92088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10800000">
              <a:off x="4786200" y="1714680"/>
              <a:ext cx="85752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11 Flecha doblada"/>
          <p:cNvGrpSpPr/>
          <p:nvPr/>
        </p:nvGrpSpPr>
        <p:grpSpPr>
          <a:xfrm>
            <a:off x="3535200" y="1682640"/>
            <a:ext cx="920880" cy="1505160"/>
            <a:chOff x="3535200" y="1682640"/>
            <a:chExt cx="920880" cy="1505160"/>
          </a:xfrm>
        </p:grpSpPr>
        <p:pic>
          <p:nvPicPr>
            <p:cNvPr id="129" name="11 Flecha doblada" descr=""/>
            <p:cNvPicPr/>
            <p:nvPr/>
          </p:nvPicPr>
          <p:blipFill>
            <a:blip r:embed="rId4"/>
            <a:stretch/>
          </p:blipFill>
          <p:spPr>
            <a:xfrm>
              <a:off x="3535200" y="1682640"/>
              <a:ext cx="92088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0800000">
              <a:off x="3571560" y="1714680"/>
              <a:ext cx="85716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12 CuadroTexto"/>
          <p:cNvSpPr/>
          <p:nvPr/>
        </p:nvSpPr>
        <p:spPr>
          <a:xfrm>
            <a:off x="428760" y="3857760"/>
            <a:ext cx="3214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ngresos pro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stos directos pro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stos operativos pro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13 CuadroTexto"/>
          <p:cNvSpPr/>
          <p:nvPr/>
        </p:nvSpPr>
        <p:spPr>
          <a:xfrm>
            <a:off x="5643720" y="3857760"/>
            <a:ext cx="3214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ngresos asignados a los otros Servicios Méd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stos directos asignados a los otros Servicios Méd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stos operativos propios distribuidos en forma propor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Verdana"/>
              </a:rPr>
              <a:t>PRINCIPALES COSTOS RELEVADO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uadroTexto"/>
          <p:cNvSpPr/>
          <p:nvPr/>
        </p:nvSpPr>
        <p:spPr>
          <a:xfrm>
            <a:off x="0" y="928800"/>
            <a:ext cx="91440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RRHH. Sueldos y Cargas Sociales (4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Honorarios (en sus diversas formas)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Medicamentos y material descartable (1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IVA. (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Mantenimiento y gastos edilicios. (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Impuestos sobre ingresos. (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Servicios contratados. (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00"/>
                </a:solidFill>
                <a:latin typeface="Verdana"/>
              </a:rPr>
              <a:t>En estos 7 rubros se concentra más del </a:t>
            </a:r>
            <a:r>
              <a:rPr b="0" lang="es-AR" sz="2800" spc="-1" strike="noStrike">
                <a:solidFill>
                  <a:srgbClr val="ff0000"/>
                </a:solidFill>
                <a:latin typeface="Verdana"/>
              </a:rPr>
              <a:t>80% </a:t>
            </a:r>
            <a:r>
              <a:rPr b="0" lang="es-AR" sz="2800" spc="-1" strike="noStrike">
                <a:solidFill>
                  <a:srgbClr val="ffff00"/>
                </a:solidFill>
                <a:latin typeface="Verdana"/>
              </a:rPr>
              <a:t>de los co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Verdana"/>
              </a:rPr>
              <a:t>MANO DE OBR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0" y="928800"/>
            <a:ext cx="91440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Verdana"/>
              </a:rPr>
              <a:t>Costos mensuales (directos e indirect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Verdana"/>
              </a:rPr>
              <a:t>Cargas sociales mensu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Verdana"/>
              </a:rPr>
              <a:t>Provisión para SAC y vac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Verdana"/>
              </a:rPr>
              <a:t>Costo mensual por emple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Verdana"/>
              </a:rPr>
              <a:t>Asignación a sect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Personal directo (enfermeras, mucamas, administrativ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Personal indirecto (administrativos, servicios, apoyo a la gest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Verdana"/>
              </a:rPr>
              <a:t>Se efectuó un relevamiento del personal en función de su asignación. Para el personal indirecto se analizó su desempeño evaluando las actividades que desarrollaban y su vinculación (inductores) a los diferentes Centros de Benefici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00"/>
                </a:solidFill>
                <a:latin typeface="Verdana"/>
              </a:rPr>
              <a:t>TABLERO DE CONTRO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3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5 CuadroTexto"/>
          <p:cNvSpPr/>
          <p:nvPr/>
        </p:nvSpPr>
        <p:spPr>
          <a:xfrm>
            <a:off x="571680" y="801720"/>
            <a:ext cx="81435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Se definió un conjunto de indicadores para monitorear el desempeño del Sanato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Se elaboró un nuevo plan de cuentas contables y la creación de Centros de Beneficios (26 centr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Se analizaron las principales variables y aspectos que impactan en el negocio y la posibilidad de implementar indicadores que permitan medir los mismos y lograr gestiona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Luego, se comenzó a trabajar en un Tablero de Control Operativo y se trazaron los primeros lineamientos para ir definiendo a futuro un Tablero de Control Estratég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A su vez se definió trabajar a futuro a fin de medir la rentabilidad de cada sector del Sanato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PRINCIPALES INDUCTORES PARA LA ASIGNACIÓN DEL PERSONAL INDIREC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10 Conector recto"/>
          <p:cNvSpPr/>
          <p:nvPr/>
        </p:nvSpPr>
        <p:spPr>
          <a:xfrm>
            <a:off x="285840" y="998640"/>
            <a:ext cx="857232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14 CuadroTexto"/>
          <p:cNvSpPr/>
          <p:nvPr/>
        </p:nvSpPr>
        <p:spPr>
          <a:xfrm>
            <a:off x="0" y="1447920"/>
            <a:ext cx="914400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Facturación de prestaciones en internación: </a:t>
            </a:r>
            <a:r>
              <a:rPr b="0" i="1" lang="es-AR" sz="2000" spc="-1" strike="noStrike">
                <a:solidFill>
                  <a:srgbClr val="ffffff"/>
                </a:solidFill>
                <a:latin typeface="Verdana"/>
              </a:rPr>
              <a:t>Cantidad de ítems facturados en internación por Cen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Recepción de Consultorios Externos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uso de consultorios externos por cada centro (horas afectada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Facturación de consultas y prácticas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cantidad (no monto) de consultas y prácticas efectua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Control de facturación en internación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ponderando volúmenes e ítems facturados en internació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Depto. Contable, Financiero y Gerencia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montos de facturación por Centros de Benefici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COSTOS INDIRECTOS - INDUCTO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14 CuadroTexto"/>
          <p:cNvSpPr/>
          <p:nvPr/>
        </p:nvSpPr>
        <p:spPr>
          <a:xfrm>
            <a:off x="0" y="857160"/>
            <a:ext cx="9144000" cy="71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Gastos de comedor: </a:t>
            </a:r>
            <a:r>
              <a:rPr b="0" i="1" lang="es-AR" sz="2000" spc="-1" strike="noStrike">
                <a:solidFill>
                  <a:srgbClr val="ffffff"/>
                </a:solidFill>
                <a:latin typeface="Verdana"/>
              </a:rPr>
              <a:t>40% personal 60% pacientes intern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Gastos de lavadero y ropería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pacientes internados. Días cama de pacientes por sec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Gastos de facturación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volumen de factur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Gastos de comunicación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cantidad de internos telefónic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Utiles de escritorio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consumos por sec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Sistema informático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cantidad de termin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Honorarios por asesoramiento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volumen de factur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Servicios de seguridad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cantidad de pacientes en ambulatorio e internado multiplicado por 1,8 (tiene en cuenta los acompañantes y visita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COSTOS INDIRECTOS - INDUCTO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14 CuadroTexto"/>
          <p:cNvSpPr/>
          <p:nvPr/>
        </p:nvSpPr>
        <p:spPr>
          <a:xfrm>
            <a:off x="0" y="981000"/>
            <a:ext cx="91440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Residuos patológicos: </a:t>
            </a:r>
            <a:r>
              <a:rPr b="0" i="1" lang="es-AR" sz="2000" spc="-1" strike="noStrike">
                <a:solidFill>
                  <a:srgbClr val="ffffff"/>
                </a:solidFill>
                <a:latin typeface="Verdana"/>
              </a:rPr>
              <a:t>kg. de residuos patológicos gene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Gastos impositivos y financieros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volumen por sec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Seguros de responsabilidad civil (praxis médica)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especialidades de mayor ries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Gastos de inmuebles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m2 de superficie ocupados por inmueble y especialid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ff00"/>
                </a:solidFill>
                <a:latin typeface="Verdana"/>
              </a:rPr>
              <a:t>Quebranto convenios de riesgo: </a:t>
            </a:r>
            <a:r>
              <a:rPr b="0" i="1" lang="es-AR" sz="2200" spc="-1" strike="noStrike">
                <a:solidFill>
                  <a:srgbClr val="ffffff"/>
                </a:solidFill>
                <a:latin typeface="Verdana"/>
              </a:rPr>
              <a:t>facturación convenios de riesgo. Contratos capitad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IMPLEMENTACIÓN INFORMÁTICA DEL SISTE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4 CuadroTexto"/>
          <p:cNvSpPr/>
          <p:nvPr/>
        </p:nvSpPr>
        <p:spPr>
          <a:xfrm>
            <a:off x="0" y="85716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Verdana"/>
              </a:rPr>
              <a:t>Base principal:</a:t>
            </a:r>
            <a:r>
              <a:rPr b="0" lang="es-AR" sz="2400" spc="-1" strike="noStrike">
                <a:solidFill>
                  <a:srgbClr val="00ff00"/>
                </a:solidFill>
                <a:latin typeface="Verdana"/>
              </a:rPr>
              <a:t> la contabilidad del Sanatorio con un plan de cuentas suficientemente descriptivo que permita imputar adecuadamente los ingresos y los co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Verdana"/>
              </a:rPr>
              <a:t>Ingresos por Centro</a:t>
            </a:r>
            <a:r>
              <a:rPr b="0" lang="es-AR" sz="2400" spc="-1" strike="noStrike">
                <a:solidFill>
                  <a:srgbClr val="00ff00"/>
                </a:solidFill>
                <a:latin typeface="Verdana"/>
              </a:rPr>
              <a:t>: Imputados a cada Cent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Verdana"/>
              </a:rPr>
              <a:t>Costos indirectos:</a:t>
            </a:r>
            <a:r>
              <a:rPr b="0" lang="es-AR" sz="2400" spc="-1" strike="noStrike">
                <a:solidFill>
                  <a:srgbClr val="00ff00"/>
                </a:solidFill>
                <a:latin typeface="Verdana"/>
              </a:rPr>
              <a:t> Se imputan a una cuenta contable, la cual tiene asociada un inductor (criterio de asign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Verdana"/>
              </a:rPr>
              <a:t>Tablero de Contro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Rentabilidad del conjunto de la Instit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Rentabilidad de cada Centro de Benef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Periodicidad mensual acumul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Aperturas de información neces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IMPLEMENTACIÓN INFORMÁTICA DEL SISTE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14 CuadroTexto"/>
          <p:cNvSpPr/>
          <p:nvPr/>
        </p:nvSpPr>
        <p:spPr>
          <a:xfrm>
            <a:off x="0" y="857160"/>
            <a:ext cx="91440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Verdana"/>
              </a:rPr>
              <a:t>Centros de actividades especiales (quirófano y farmac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omo Centros de Benef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omo Centr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Ingresos se apropian a los Centros que le dieron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ostos Directos e Indirectos: Se apropian mediante inductores a los Cen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buClr>
                <a:srgbClr val="ff0000"/>
              </a:buClr>
              <a:buFont typeface="Verdana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Farmacia: La cantidad de veces que cada Servicio requirió algún tipo de medicamento y/o material descartable, independientemente de la cantidad solicitada (cantidad de renglo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buClr>
                <a:srgbClr val="ff0000"/>
              </a:buClr>
              <a:buFont typeface="Verdana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Quirófano: Las horas anuales de uso de quirófano por cada especial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1 Título"/>
          <p:cNvSpPr/>
          <p:nvPr/>
        </p:nvSpPr>
        <p:spPr>
          <a:xfrm>
            <a:off x="21420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IMPLEMENTACIÓN INFORMÁTICA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2 Conector recto"/>
          <p:cNvSpPr/>
          <p:nvPr/>
        </p:nvSpPr>
        <p:spPr>
          <a:xfrm>
            <a:off x="285840" y="642960"/>
            <a:ext cx="857232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35000" y="1515960"/>
            <a:ext cx="8866080" cy="4984920"/>
          </a:xfrm>
          <a:prstGeom prst="rect">
            <a:avLst/>
          </a:prstGeom>
          <a:ln w="0">
            <a:noFill/>
          </a:ln>
        </p:spPr>
      </p:pic>
      <p:sp>
        <p:nvSpPr>
          <p:cNvPr id="157" name="5 CuadroTexto"/>
          <p:cNvSpPr/>
          <p:nvPr/>
        </p:nvSpPr>
        <p:spPr>
          <a:xfrm>
            <a:off x="0" y="85716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ff00"/>
                </a:solidFill>
                <a:uFillTx/>
                <a:latin typeface="Verdana"/>
              </a:rPr>
              <a:t>Vista 1. Farmacia y Quirófano como Centro de Benef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1 Título"/>
          <p:cNvSpPr/>
          <p:nvPr/>
        </p:nvSpPr>
        <p:spPr>
          <a:xfrm>
            <a:off x="21420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IMPLEMENTACIÓN INFORMÁTICA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2 Conector recto"/>
          <p:cNvSpPr/>
          <p:nvPr/>
        </p:nvSpPr>
        <p:spPr>
          <a:xfrm>
            <a:off x="285840" y="642960"/>
            <a:ext cx="857232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42920" y="1521000"/>
            <a:ext cx="8858160" cy="4979880"/>
          </a:xfrm>
          <a:prstGeom prst="rect">
            <a:avLst/>
          </a:prstGeom>
          <a:ln w="0">
            <a:noFill/>
          </a:ln>
        </p:spPr>
      </p:pic>
      <p:sp>
        <p:nvSpPr>
          <p:cNvPr id="161" name="5 CuadroTexto"/>
          <p:cNvSpPr/>
          <p:nvPr/>
        </p:nvSpPr>
        <p:spPr>
          <a:xfrm>
            <a:off x="0" y="85716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ff00"/>
                </a:solidFill>
                <a:uFillTx/>
                <a:latin typeface="Verdana"/>
              </a:rPr>
              <a:t>Vista 2. Farmacia y Quirófano como Centr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1 Título"/>
          <p:cNvSpPr/>
          <p:nvPr/>
        </p:nvSpPr>
        <p:spPr>
          <a:xfrm>
            <a:off x="21420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IMPLEMENTACIÓN INFORMÁTICA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2 Conector recto"/>
          <p:cNvSpPr/>
          <p:nvPr/>
        </p:nvSpPr>
        <p:spPr>
          <a:xfrm>
            <a:off x="285840" y="642960"/>
            <a:ext cx="857232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58760" y="1500120"/>
            <a:ext cx="8771040" cy="4930920"/>
          </a:xfrm>
          <a:prstGeom prst="rect">
            <a:avLst/>
          </a:prstGeom>
          <a:ln w="0">
            <a:noFill/>
          </a:ln>
        </p:spPr>
      </p:pic>
      <p:sp>
        <p:nvSpPr>
          <p:cNvPr id="165" name="5 CuadroTexto"/>
          <p:cNvSpPr/>
          <p:nvPr/>
        </p:nvSpPr>
        <p:spPr>
          <a:xfrm>
            <a:off x="0" y="85716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ff00"/>
                </a:solidFill>
                <a:uFillTx/>
                <a:latin typeface="Verdana"/>
              </a:rPr>
              <a:t>Vista 1. Internación Pi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1 Título"/>
          <p:cNvSpPr/>
          <p:nvPr/>
        </p:nvSpPr>
        <p:spPr>
          <a:xfrm>
            <a:off x="21420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IMPLEMENTACIÓN INFORMÁTICA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2 Conector recto"/>
          <p:cNvSpPr/>
          <p:nvPr/>
        </p:nvSpPr>
        <p:spPr>
          <a:xfrm>
            <a:off x="285840" y="642960"/>
            <a:ext cx="857232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5 CuadroTexto"/>
          <p:cNvSpPr/>
          <p:nvPr/>
        </p:nvSpPr>
        <p:spPr>
          <a:xfrm>
            <a:off x="0" y="85716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ff00"/>
                </a:solidFill>
                <a:uFillTx/>
                <a:latin typeface="Verdana"/>
              </a:rPr>
              <a:t>Vista 2. Traumat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77840" y="1571760"/>
            <a:ext cx="88232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PROCEDIMIENTOS CONTABLES MENSUALES – CHECK LI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10 Conector recto"/>
          <p:cNvSpPr/>
          <p:nvPr/>
        </p:nvSpPr>
        <p:spPr>
          <a:xfrm>
            <a:off x="285840" y="106992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14 CuadroTexto"/>
          <p:cNvSpPr/>
          <p:nvPr/>
        </p:nvSpPr>
        <p:spPr>
          <a:xfrm>
            <a:off x="0" y="1062000"/>
            <a:ext cx="9144000" cy="58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ff00"/>
                </a:solidFill>
                <a:latin typeface="Verdana"/>
              </a:rPr>
              <a:t>La información del Tablero de Control debe ser íntegra y comparab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ff00"/>
                </a:solidFill>
                <a:latin typeface="Verdana"/>
              </a:rPr>
              <a:t>Para ello es preciso asegurar que todos los meses cuenten con sus correspondientes Ingresos y Costo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ff00"/>
                </a:solidFill>
                <a:latin typeface="Verdana"/>
              </a:rPr>
              <a:t>A modo de ejemplo, debemos asegurar que en cada mes existan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Facturación y notas de crédito por auditor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Refacturaciones eventu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Remuneraciones y carga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Amortiz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Consumo de farmacia y reactivos de laborato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Ingreso de facturas de honorarios de 3eros (Laboratorio, legales, contables, derivaciones del laboratorio, médicos de guardi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Ingreso de facturación de 3eros (servicio de comedor, lavadero, seguridad, alquiler central telefónica, limpieza, sistema informático, e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Devengamientos mensuales (impuestos sobre ventas, seguros de responsabilidad civil, etc.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9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4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TABLERO DE CONTROL OP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3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1285920" y="107172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00"/>
                </a:solidFill>
                <a:latin typeface="Verdana"/>
              </a:rPr>
              <a:t>Algunos aspectos que medi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6 CuadroTexto"/>
          <p:cNvSpPr/>
          <p:nvPr/>
        </p:nvSpPr>
        <p:spPr>
          <a:xfrm>
            <a:off x="714240" y="1743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Facturación total (mon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7 CuadroTexto"/>
          <p:cNvSpPr/>
          <p:nvPr/>
        </p:nvSpPr>
        <p:spPr>
          <a:xfrm>
            <a:off x="714240" y="2263680"/>
            <a:ext cx="8001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Ambulatorio e inter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lasificación por grupo financiador </a:t>
            </a: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(Obra Social Sindical, Obra Social de Personal superior y prepagas y obra social de la Provinc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Tiempos de facturación de las pres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8 CuadroTexto"/>
          <p:cNvSpPr/>
          <p:nvPr/>
        </p:nvSpPr>
        <p:spPr>
          <a:xfrm>
            <a:off x="714240" y="461016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Coeficientes de eficiencia en la facturación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9 CuadroTexto"/>
          <p:cNvSpPr/>
          <p:nvPr/>
        </p:nvSpPr>
        <p:spPr>
          <a:xfrm>
            <a:off x="714240" y="509436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uentas elevadas / Internaciones cerr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onsultas y prácticas facturadas / Consultas y prácticas efectu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1 Título"/>
          <p:cNvSpPr/>
          <p:nvPr/>
        </p:nvSpPr>
        <p:spPr>
          <a:xfrm>
            <a:off x="21420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00"/>
                </a:solidFill>
                <a:latin typeface="Verdana"/>
              </a:rPr>
              <a:t>CONCLUS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7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8 CuadroTexto"/>
          <p:cNvSpPr/>
          <p:nvPr/>
        </p:nvSpPr>
        <p:spPr>
          <a:xfrm>
            <a:off x="0" y="95724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ff00"/>
                </a:solidFill>
                <a:uFillTx/>
                <a:latin typeface="Verdana"/>
              </a:rPr>
              <a:t>(A partir de la visión de los Directiv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5 CuadroTexto"/>
          <p:cNvSpPr/>
          <p:nvPr/>
        </p:nvSpPr>
        <p:spPr>
          <a:xfrm>
            <a:off x="142920" y="1571760"/>
            <a:ext cx="88581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Verdana"/>
              </a:rPr>
              <a:t>Contamos con una herramienta valio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Verdana"/>
              </a:rPr>
              <a:t>Es una herramienta comparable con el pasado, con suficiente desglose, sólida en su construcción y atractiva en su implement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Verdana"/>
              </a:rPr>
              <a:t>No solamente miramos valores económicos sino en los pilares del servicio, necesarios para generar valor en la Institu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Verdana"/>
              </a:rPr>
              <a:t>Deuda pendiente: continuar gestando indicadores que permitan visualizar la concreción de las metas estratégicas de la Institució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TABLERO DE CONTROL OP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6 CuadroTexto"/>
          <p:cNvSpPr/>
          <p:nvPr/>
        </p:nvSpPr>
        <p:spPr>
          <a:xfrm>
            <a:off x="714240" y="113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Internaciones (cantidades y mon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7 CuadroTexto"/>
          <p:cNvSpPr/>
          <p:nvPr/>
        </p:nvSpPr>
        <p:spPr>
          <a:xfrm>
            <a:off x="714240" y="1658880"/>
            <a:ext cx="8001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línicas y quirúrg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lasificación por grupo financiador </a:t>
            </a: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(Obra Social Sindical, Obra Social de Personal superior y prepagas y obra social de la Provinc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Análisis de ocupación de camas por sector (Piso, UTI, U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8 CuadroTexto"/>
          <p:cNvSpPr/>
          <p:nvPr/>
        </p:nvSpPr>
        <p:spPr>
          <a:xfrm>
            <a:off x="714240" y="461016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Coeficientes de efi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9 CuadroTexto"/>
          <p:cNvSpPr/>
          <p:nvPr/>
        </p:nvSpPr>
        <p:spPr>
          <a:xfrm>
            <a:off x="714240" y="50943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Altas de pacientes (altas de pacientes efectuadas antes de las 11:00 / altas tot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Días de estada de pacientes por s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TABLERO DE CONTROL OP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6 CuadroTexto"/>
          <p:cNvSpPr/>
          <p:nvPr/>
        </p:nvSpPr>
        <p:spPr>
          <a:xfrm>
            <a:off x="714240" y="8571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Auditorías o débitos (montos y cantida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714240" y="1214280"/>
            <a:ext cx="80010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Ambulatorio e inter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lasificación por grupo financiador </a:t>
            </a: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(Obra Social Sindical, Obra Social de Personal superior y prepagas y obra social de la Provinc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Discriminación del débito entre consultas, prácticas, medicamentos y descartables, pens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Motivo del débito (administrativo, médico, enfermería, arancelario, otr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714240" y="482436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Coeficientes de efi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9 CuadroTexto"/>
          <p:cNvSpPr/>
          <p:nvPr/>
        </p:nvSpPr>
        <p:spPr>
          <a:xfrm>
            <a:off x="714240" y="534816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Débitos apropiados / débitos cargados en la con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Monto de débitos / montos fac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TABLERO DE CONTROL OP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6 CuadroTexto"/>
          <p:cNvSpPr/>
          <p:nvPr/>
        </p:nvSpPr>
        <p:spPr>
          <a:xfrm>
            <a:off x="714240" y="1071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Consultorio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7 CuadroTexto"/>
          <p:cNvSpPr/>
          <p:nvPr/>
        </p:nvSpPr>
        <p:spPr>
          <a:xfrm>
            <a:off x="714240" y="1428840"/>
            <a:ext cx="8001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Ocupación de consul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Ingresos por alquiler de consultorio (Monto recaudado / horas disponi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Tiempo de tardanza en asignación de tur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Promedio de espera para comunicarse con oper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Llamadas contestadas / llamadas entr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Llamadas rechazadas o abandon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8 CuadroTexto"/>
          <p:cNvSpPr/>
          <p:nvPr/>
        </p:nvSpPr>
        <p:spPr>
          <a:xfrm>
            <a:off x="714240" y="47530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Farma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9 CuadroTexto"/>
          <p:cNvSpPr/>
          <p:nvPr/>
        </p:nvSpPr>
        <p:spPr>
          <a:xfrm>
            <a:off x="714240" y="52768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Medicamentos y descartables. Contribución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onsumo por centr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Stock. Rotación de artícu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TABLERO DE CONTROL OP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6 CuadroTexto"/>
          <p:cNvSpPr/>
          <p:nvPr/>
        </p:nvSpPr>
        <p:spPr>
          <a:xfrm>
            <a:off x="714240" y="1071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Encuestas a pacientes solo en intern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7 CuadroTexto"/>
          <p:cNvSpPr/>
          <p:nvPr/>
        </p:nvSpPr>
        <p:spPr>
          <a:xfrm>
            <a:off x="714240" y="1428840"/>
            <a:ext cx="8001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Se relev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ff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¿Por qué eligió al Sanatorio Parqu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ff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El nivel de atención del personal, médico, de enfermería y de limpi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ff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La calidad y presentación de la comida teniendo en cuenta la prescripción mé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ff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Si recibió una explicación clara sobre su diagnóstico, tratamiento y/o evolu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ff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Si los tramites administrativos que tuvo que realizar en la Institución para su admisión y externación fueron correctos y agi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TABLERO DE CONTROL OP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6 CuadroTexto"/>
          <p:cNvSpPr/>
          <p:nvPr/>
        </p:nvSpPr>
        <p:spPr>
          <a:xfrm>
            <a:off x="714240" y="1071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Algunas pantallas del Tabl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23880" y="1928880"/>
            <a:ext cx="8020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Verdana"/>
              </a:rPr>
              <a:t>TABLERO DE CONTROL OPERATIV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10 Conector recto"/>
          <p:cNvSpPr/>
          <p:nvPr/>
        </p:nvSpPr>
        <p:spPr>
          <a:xfrm>
            <a:off x="285840" y="857160"/>
            <a:ext cx="857232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84120" y="1643040"/>
            <a:ext cx="85456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9:12:07Z</dcterms:created>
  <dc:creator>User</dc:creator>
  <dc:description/>
  <dc:language>en-US</dc:language>
  <cp:lastModifiedBy>User</cp:lastModifiedBy>
  <dcterms:modified xsi:type="dcterms:W3CDTF">2011-08-09T19:38:15Z</dcterms:modified>
  <cp:revision>73</cp:revision>
  <dc:subject/>
  <dc:title>TABLERO DE CONTROL Y ANÁLSIS DE COSTOS POR SECTOR</dc:title>
</cp:coreProperties>
</file>